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gif" ContentType="image/gif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0EB2-84D9-44F9-8BC3-676905892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4767-7F38-4258-9F31-5197A2CD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D14C-0FE5-468B-B725-26AB91A1D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6DE0-AB62-4CF2-A6FE-DF5A05EF9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27F3-4192-47C7-8029-B92C9D712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AA00-7E8F-4493-8452-8B41C33D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AD21-576F-44A5-B49C-11915987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267DF-4E07-4A45-BA47-79B7973B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A6A6-06BB-4C95-B57C-D633E8CD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444A-2160-4304-8CED-91167EFE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5049-CE4E-4821-AAB4-3870E64E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7D0A-3168-48BD-9CE2-B295DE1B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97BE-DF96-4E8D-9DE5-334974DD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4D01-1CE7-49F5-A6AB-1E51E916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7689-C53A-44A6-A537-D0A2BFFC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BDF7-111D-4B2A-8845-E110141E9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34BC-2150-481E-B612-8A214B241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2711-F524-40D1-9D65-2C1B9FF0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80F1-F82E-488D-8121-7157A02C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2DA9-D502-45BB-A2C2-DBD0C9BD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F293-E281-4D48-AD6A-C40A6F8D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0464-2091-4CCF-8940-A4ED4FCF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61D9-5ECB-4FD0-B2F2-7CC2750E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0B66-5D55-48E7-AA53-E882687A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9040"/>
              <a:chOff x="-1080" y="2601000"/>
              <a:chExt cx="2687400" cy="311904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3200" y="4050360"/>
                <a:ext cx="1833120" cy="1669680"/>
                <a:chOff x="853200" y="4050360"/>
                <a:chExt cx="1833120" cy="166968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7640" y="3932280"/>
                  <a:ext cx="477360" cy="125028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72400" y="4978440"/>
                  <a:ext cx="110520" cy="5130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8400" y="5565600"/>
                  <a:ext cx="200880" cy="892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60B7-699A-410C-B8AA-4D798F725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5040" y="59400"/>
              <a:ext cx="3625200" cy="6136200"/>
              <a:chOff x="5405040" y="59400"/>
              <a:chExt cx="3625200" cy="61362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8000" y="343440"/>
                <a:ext cx="2109600" cy="235512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5720" y="1967040"/>
                <a:ext cx="903600" cy="8416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760" y="2586600"/>
                <a:ext cx="43812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3280" y="669240"/>
                <a:ext cx="387720" cy="55008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2040" y="2649600"/>
                <a:ext cx="16308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5200" y="1241280"/>
                <a:ext cx="18972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4960" y="2936160"/>
                <a:ext cx="522000" cy="326556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4800" y="290160"/>
              <a:ext cx="897480" cy="821160"/>
              <a:chOff x="5644800" y="290160"/>
              <a:chExt cx="897480" cy="8211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5320" y="779040"/>
                <a:ext cx="18216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280" y="462600"/>
                <a:ext cx="31032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9240" y="392400"/>
                <a:ext cx="32436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5640"/>
              <a:ext cx="1059120" cy="833400"/>
              <a:chOff x="968760" y="5255640"/>
              <a:chExt cx="1059120" cy="8334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0720" y="5518080"/>
                <a:ext cx="250920" cy="3016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5920" y="5733000"/>
                <a:ext cx="429480" cy="250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79840"/>
                <a:ext cx="448920" cy="127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35240"/>
              <a:ext cx="1690200" cy="1146600"/>
              <a:chOff x="375840" y="4352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5372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7888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260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3680" y="3712320"/>
              <a:ext cx="1155600" cy="1607760"/>
              <a:chOff x="739368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840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9120" y="4455360"/>
                <a:ext cx="60804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1680" y="3781080"/>
                <a:ext cx="635760" cy="224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6AE0-472A-46FF-8C4D-CCFFF7609F5F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Evaluating Websites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Do you trust everyone to tell you the truth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Picture 5" descr="Osama"/>
          <p:cNvPicPr/>
          <p:nvPr/>
        </p:nvPicPr>
        <p:blipFill>
          <a:blip r:embed="rId1"/>
          <a:stretch/>
        </p:blipFill>
        <p:spPr>
          <a:xfrm>
            <a:off x="3429000" y="3048120"/>
            <a:ext cx="1960560" cy="2895480"/>
          </a:xfrm>
          <a:prstGeom prst="rect">
            <a:avLst/>
          </a:prstGeom>
          <a:ln w="0">
            <a:noFill/>
          </a:ln>
        </p:spPr>
      </p:pic>
      <p:sp>
        <p:nvSpPr>
          <p:cNvPr id="170" name="TextBox 4"/>
          <p:cNvSpPr/>
          <p:nvPr/>
        </p:nvSpPr>
        <p:spPr>
          <a:xfrm>
            <a:off x="457200" y="3505320"/>
            <a:ext cx="2743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Osama bin Laden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erroris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1957-2011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5486400" y="3124080"/>
            <a:ext cx="2666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Was one of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BI’s 10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Most Wanted Fugitives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5638680" y="5105520"/>
            <a:ext cx="261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d73"/>
                </a:solidFill>
                <a:latin typeface="Verdana"/>
              </a:rPr>
              <a:t>Reward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d73"/>
                </a:solidFill>
                <a:latin typeface="Verdana"/>
              </a:rPr>
              <a:t>$52 millio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1519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6699"/>
                </a:solidFill>
                <a:uFillTx/>
                <a:latin typeface="Verdana"/>
              </a:rPr>
              <a:t>What</a:t>
            </a:r>
            <a:r>
              <a:rPr b="1" lang="en-US" sz="6000" spc="-1" strike="noStrike">
                <a:solidFill>
                  <a:srgbClr val="006699"/>
                </a:solidFill>
                <a:latin typeface="Verdana"/>
              </a:rPr>
              <a:t>? </a:t>
            </a:r>
            <a:r>
              <a:rPr b="1" lang="en-US" sz="6000" spc="-1" strike="noStrike" u="sng">
                <a:solidFill>
                  <a:srgbClr val="006699"/>
                </a:solidFill>
                <a:uFillTx/>
                <a:latin typeface="Verdana"/>
              </a:rPr>
              <a:t>Accuracy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You should answer </a:t>
            </a:r>
            <a:r>
              <a:rPr b="1" i="1" lang="en-US" sz="4000" spc="-1" strike="noStrike">
                <a:solidFill>
                  <a:srgbClr val="00b050"/>
                </a:solidFill>
                <a:latin typeface="Verdana"/>
              </a:rPr>
              <a:t>yes</a:t>
            </a: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Does the info appear accurate?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Can you verify facts?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Is the info scholarly?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Is info documented with sources or links?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0" y="837720"/>
            <a:ext cx="91440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Is/are the spelling/ grammar/ links correct?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Is site linked to reputable sites? To check who links to this site: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Type in Google search box: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4000" spc="-1" strike="noStrike">
                <a:solidFill>
                  <a:srgbClr val="00b050"/>
                </a:solidFill>
                <a:latin typeface="Verdana"/>
              </a:rPr>
              <a:t>link:paste URL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Example: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Verdana"/>
              </a:rPr>
              <a:t>link:http://www.fvza.org/index.html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15360" indent="-31536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0"/>
            <a:ext cx="82440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6666"/>
                </a:solidFill>
                <a:latin typeface="Verdana"/>
              </a:rPr>
              <a:t>                      </a:t>
            </a:r>
            <a:r>
              <a:rPr b="0" lang="en-US" sz="6000" spc="-1" strike="noStrike" u="sng">
                <a:solidFill>
                  <a:srgbClr val="006666"/>
                </a:solidFill>
                <a:uFillTx/>
                <a:latin typeface="Verdana"/>
              </a:rPr>
              <a:t>When</a:t>
            </a:r>
            <a:r>
              <a:rPr b="0" lang="en-US" sz="6000" spc="-1" strike="noStrike">
                <a:solidFill>
                  <a:srgbClr val="006666"/>
                </a:solidFill>
                <a:latin typeface="Verdana"/>
              </a:rPr>
              <a:t>?</a:t>
            </a:r>
            <a:br>
              <a:rPr sz="4000"/>
            </a:b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99"/>
                </a:solidFill>
                <a:latin typeface="Verdana"/>
              </a:rPr>
              <a:t>When was 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99"/>
                </a:solidFill>
                <a:latin typeface="Verdana"/>
              </a:rPr>
              <a:t>the information 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99"/>
                </a:solidFill>
                <a:latin typeface="Verdana"/>
              </a:rPr>
              <a:t>created?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6699"/>
                </a:solidFill>
                <a:uFillTx/>
                <a:latin typeface="Verdana"/>
              </a:rPr>
              <a:t>Currency</a:t>
            </a:r>
            <a:r>
              <a:rPr b="1" lang="en-US" sz="6000" spc="-1" strike="noStrike">
                <a:solidFill>
                  <a:srgbClr val="006699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4" name="Picture 9" descr="Caveman-3"/>
          <p:cNvPicPr/>
          <p:nvPr/>
        </p:nvPicPr>
        <p:blipFill>
          <a:blip r:embed="rId1"/>
          <a:stretch/>
        </p:blipFill>
        <p:spPr>
          <a:xfrm>
            <a:off x="6477120" y="2286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6666"/>
                </a:solidFill>
                <a:uFillTx/>
                <a:latin typeface="Verdana"/>
              </a:rPr>
              <a:t>When</a:t>
            </a:r>
            <a:r>
              <a:rPr b="1" lang="en-US" sz="6000" spc="-1" strike="noStrike">
                <a:solidFill>
                  <a:srgbClr val="006666"/>
                </a:solidFill>
                <a:latin typeface="Verdana"/>
              </a:rPr>
              <a:t>? </a:t>
            </a:r>
            <a:r>
              <a:rPr b="1" lang="en-US" sz="6000" spc="-1" strike="noStrike" u="sng">
                <a:solidFill>
                  <a:srgbClr val="006666"/>
                </a:solidFill>
                <a:uFillTx/>
                <a:latin typeface="Verdana"/>
              </a:rPr>
              <a:t>Currency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s page dated? (no? – don’t use!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hen was page created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hen was page last updated or revised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s any info out-of-date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re links still active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oes current date matter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7" name="Picture 4" descr="Sabretooth.png"/>
          <p:cNvPicPr/>
          <p:nvPr/>
        </p:nvPicPr>
        <p:blipFill>
          <a:blip r:embed="rId1"/>
          <a:stretch/>
        </p:blipFill>
        <p:spPr>
          <a:xfrm>
            <a:off x="6324480" y="4114800"/>
            <a:ext cx="2667240" cy="238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228240"/>
            <a:ext cx="82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6666"/>
                </a:solidFill>
                <a:uFillTx/>
                <a:latin typeface="Verdana"/>
              </a:rPr>
              <a:t>Where</a:t>
            </a:r>
            <a:r>
              <a:rPr b="0" lang="en-US" sz="6000" spc="-1" strike="noStrike">
                <a:solidFill>
                  <a:srgbClr val="006666"/>
                </a:solidFill>
                <a:latin typeface="Verdana"/>
              </a:rPr>
              <a:t>?</a:t>
            </a:r>
            <a:br>
              <a:rPr sz="4000"/>
            </a:b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6699"/>
                </a:solidFill>
                <a:uFillTx/>
                <a:latin typeface="Verdana"/>
              </a:rPr>
              <a:t>Where</a:t>
            </a:r>
            <a:r>
              <a:rPr b="0" lang="en-US" sz="5400" spc="-1" strike="noStrike">
                <a:solidFill>
                  <a:srgbClr val="006699"/>
                </a:solidFill>
                <a:latin typeface="Verdana"/>
              </a:rPr>
              <a:t> does the 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5400" spc="-1" strike="noStrike">
                <a:solidFill>
                  <a:srgbClr val="006699"/>
                </a:solidFill>
                <a:latin typeface="Verdana"/>
              </a:rPr>
              <a:t>information 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en-US" sz="5400" spc="-1" strike="noStrike">
                <a:solidFill>
                  <a:srgbClr val="006699"/>
                </a:solidFill>
                <a:latin typeface="Verdana"/>
              </a:rPr>
              <a:t>come from?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0" name="Picture 3" descr="ZF4C1CA3OU9JUCAENIEQ9CAVUMK8OCA4FTL0ZCA91103UCA06UZRRCAZ9U3LHCAO79LH7CA6ZN6G3CAJ0MIU5CAFSUV9XCANM2B01CA5CJQQDCAM1HCVOCAP6TQ9PCAVAO0GTCA9SCESLCA199YZA.jpg"/>
          <p:cNvPicPr/>
          <p:nvPr/>
        </p:nvPicPr>
        <p:blipFill>
          <a:blip r:embed="rId1"/>
          <a:stretch/>
        </p:blipFill>
        <p:spPr>
          <a:xfrm>
            <a:off x="533520" y="3581280"/>
            <a:ext cx="2361960" cy="202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6666"/>
                </a:solidFill>
                <a:uFillTx/>
                <a:latin typeface="Verdana"/>
              </a:rPr>
              <a:t>URL – Domain</a:t>
            </a:r>
            <a:r>
              <a:rPr b="0" lang="en-US" sz="6000" spc="-1" strike="noStrike">
                <a:solidFill>
                  <a:srgbClr val="006666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~ or % = personal pag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.gov     = Government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.mil      = Military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.edu     = Educa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.org      = Organiza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.com     = Commercia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.int        = Internationa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.us, .uk = country cod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-686160"/>
            <a:ext cx="8244000" cy="24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6666"/>
                </a:solidFill>
                <a:uFillTx/>
                <a:latin typeface="Verdana"/>
              </a:rPr>
              <a:t>Why</a:t>
            </a:r>
            <a:r>
              <a:rPr b="0" lang="en-US" sz="6000" spc="-1" strike="noStrike">
                <a:solidFill>
                  <a:srgbClr val="006666"/>
                </a:solidFill>
                <a:latin typeface="Verdana"/>
              </a:rPr>
              <a:t>?</a:t>
            </a:r>
            <a:br>
              <a:rPr sz="4000"/>
            </a:b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6699"/>
                </a:solidFill>
                <a:uFillTx/>
                <a:latin typeface="Verdana"/>
              </a:rPr>
              <a:t>Why</a:t>
            </a:r>
            <a:r>
              <a:rPr b="0" lang="en-US" sz="6000" spc="-1" strike="noStrike">
                <a:solidFill>
                  <a:srgbClr val="006699"/>
                </a:solidFill>
                <a:latin typeface="Verdana"/>
              </a:rPr>
              <a:t> was the 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99"/>
                </a:solidFill>
                <a:latin typeface="Verdana"/>
              </a:rPr>
              <a:t>page created?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96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Verdana"/>
              </a:rPr>
              <a:t>Is the purpose: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52480" y="1447560"/>
            <a:ext cx="6934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99"/>
                </a:solidFill>
                <a:latin typeface="Verdana"/>
              </a:rPr>
              <a:t>To inform?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5400" spc="-1" strike="noStrike">
                <a:solidFill>
                  <a:srgbClr val="006699"/>
                </a:solidFill>
                <a:latin typeface="Verdana"/>
              </a:rPr>
              <a:t>To explain?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5400" spc="-1" strike="noStrike">
                <a:solidFill>
                  <a:srgbClr val="006699"/>
                </a:solidFill>
                <a:latin typeface="Verdana"/>
              </a:rPr>
              <a:t>To persuade?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5400" spc="-1" strike="noStrike">
                <a:solidFill>
                  <a:srgbClr val="006699"/>
                </a:solidFill>
                <a:latin typeface="Verdana"/>
              </a:rPr>
              <a:t>To sell?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5400" spc="-1" strike="noStrike">
                <a:solidFill>
                  <a:srgbClr val="006699"/>
                </a:solidFill>
                <a:latin typeface="Verdana"/>
              </a:rPr>
              <a:t>To satirize?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1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99"/>
                </a:solidFill>
                <a:latin typeface="Verdana"/>
              </a:rPr>
              <a:t>To entertain?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Verdana"/>
              </a:rPr>
              <a:t>Does the author: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28240" y="16002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99"/>
                </a:solidFill>
                <a:latin typeface="Verdana"/>
              </a:rPr>
              <a:t>State his/her purpose?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99"/>
                </a:solidFill>
                <a:latin typeface="Verdana"/>
              </a:rPr>
              <a:t>Appear biased?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99"/>
                </a:solidFill>
                <a:latin typeface="Verdana"/>
              </a:rPr>
              <a:t>Distinguish fact from  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4800" spc="-1" strike="noStrike">
                <a:solidFill>
                  <a:srgbClr val="006699"/>
                </a:solidFill>
                <a:latin typeface="Verdana"/>
              </a:rPr>
              <a:t>opinion?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99"/>
                </a:solidFill>
                <a:latin typeface="Verdana"/>
              </a:rPr>
              <a:t>Use excessive advertising?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ttp://www.buydehydratedwater.com/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Verdana"/>
              </a:rPr>
              <a:t>CAUTION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52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Never use information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you can’t verify!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Verdana"/>
              </a:rPr>
              <a:t>What about </a:t>
            </a:r>
            <a:r>
              <a:rPr b="0" i="1" lang="en-US" sz="3600" spc="-1" strike="noStrike">
                <a:solidFill>
                  <a:srgbClr val="00b050"/>
                </a:solidFill>
                <a:latin typeface="Verdana"/>
              </a:rPr>
              <a:t>Wikipedia</a:t>
            </a:r>
            <a:r>
              <a:rPr b="0" lang="en-US" sz="3600" spc="-1" strike="noStrike">
                <a:solidFill>
                  <a:srgbClr val="00b05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b050"/>
                </a:solidFill>
                <a:latin typeface="Verdana"/>
              </a:rPr>
              <a:t>World Book Encyclopedia</a:t>
            </a:r>
            <a:r>
              <a:rPr b="0" lang="en-US" sz="3600" spc="-1" strike="noStrike">
                <a:solidFill>
                  <a:srgbClr val="00b05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b050"/>
                </a:solidFill>
                <a:latin typeface="Verdana"/>
              </a:rPr>
              <a:t>Encyclopedia Britannica</a:t>
            </a:r>
            <a:r>
              <a:rPr b="0" lang="en-US" sz="3600" spc="-1" strike="noStrike">
                <a:solidFill>
                  <a:srgbClr val="00b05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Never cite general encyclopedias like these when doing academic research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1" name="Picture 5" descr="Caution"/>
          <p:cNvPicPr/>
          <p:nvPr/>
        </p:nvPicPr>
        <p:blipFill>
          <a:blip r:embed="rId1"/>
          <a:stretch/>
        </p:blipFill>
        <p:spPr>
          <a:xfrm>
            <a:off x="304920" y="53352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87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 u="sng">
                <a:solidFill>
                  <a:srgbClr val="006666"/>
                </a:solidFill>
                <a:uFillTx/>
                <a:latin typeface="Verdana"/>
              </a:rPr>
              <a:t>Who</a:t>
            </a:r>
            <a:r>
              <a:rPr b="0" lang="en-US" sz="5200" spc="-1" strike="noStrike">
                <a:solidFill>
                  <a:srgbClr val="006666"/>
                </a:solidFill>
                <a:latin typeface="Verdana"/>
              </a:rPr>
              <a:t> puts stuff on the Web?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5" name="Picture 4" descr="Beavis"/>
          <p:cNvPicPr/>
          <p:nvPr/>
        </p:nvPicPr>
        <p:blipFill>
          <a:blip r:embed="rId1"/>
          <a:stretch/>
        </p:blipFill>
        <p:spPr>
          <a:xfrm>
            <a:off x="990720" y="2057400"/>
            <a:ext cx="4678200" cy="3962520"/>
          </a:xfrm>
          <a:prstGeom prst="rect">
            <a:avLst/>
          </a:prstGeom>
          <a:ln w="0">
            <a:noFill/>
          </a:ln>
        </p:spPr>
      </p:pic>
      <p:sp>
        <p:nvSpPr>
          <p:cNvPr id="176" name="TextBox 4"/>
          <p:cNvSpPr/>
          <p:nvPr/>
        </p:nvSpPr>
        <p:spPr>
          <a:xfrm>
            <a:off x="4876920" y="2057400"/>
            <a:ext cx="3733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o you believe everything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you see &amp; hear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Oval Callout 6"/>
          <p:cNvSpPr/>
          <p:nvPr/>
        </p:nvSpPr>
        <p:spPr>
          <a:xfrm rot="2005200">
            <a:off x="4514760" y="4065120"/>
            <a:ext cx="2565360" cy="8384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edfad2"/>
          </a:solidFill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Verdana"/>
              </a:rPr>
              <a:t>I do! I do!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iting Informati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atabase articles have citations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on of Citation Machin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asy Bib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oodleTools Media Center has login info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hatever you use, you must format the citation yourself &amp; double check it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102960"/>
            <a:ext cx="6858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Verdana"/>
              </a:rPr>
              <a:t>WHOOOO?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828440"/>
            <a:ext cx="403848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Selects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Edits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Approves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Reviews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Monitors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266720" y="1600200"/>
            <a:ext cx="4419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Content on the Internet?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Right Brace 4"/>
          <p:cNvSpPr/>
          <p:nvPr/>
        </p:nvSpPr>
        <p:spPr>
          <a:xfrm>
            <a:off x="3581280" y="1752480"/>
            <a:ext cx="685800" cy="3886200"/>
          </a:xfrm>
          <a:custGeom>
            <a:avLst/>
            <a:gdLst>
              <a:gd name="textAreaLeft" fmla="*/ 0 w 685800"/>
              <a:gd name="textAreaRight" fmla="*/ 247680 w 685800"/>
              <a:gd name="textAreaTop" fmla="*/ 17640 h 3886200"/>
              <a:gd name="textAreaBottom" fmla="*/ 3868560 h 388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9"/>
                  <a:pt x="10800" y="318"/>
                </a:cubicBezTo>
                <a:lnTo>
                  <a:pt x="10800" y="10482"/>
                </a:lnTo>
                <a:cubicBezTo>
                  <a:pt x="10800" y="10641"/>
                  <a:pt x="16200" y="10800"/>
                  <a:pt x="21600" y="10800"/>
                </a:cubicBezTo>
                <a:cubicBezTo>
                  <a:pt x="16200" y="10800"/>
                  <a:pt x="10800" y="10959"/>
                  <a:pt x="10800" y="11118"/>
                </a:cubicBezTo>
                <a:lnTo>
                  <a:pt x="10800" y="21282"/>
                </a:lnTo>
                <a:cubicBezTo>
                  <a:pt x="10800" y="21441"/>
                  <a:pt x="5400" y="21600"/>
                  <a:pt x="0" y="21600"/>
                </a:cubicBezTo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2" name="Picture 5" descr="images.jpg"/>
          <p:cNvPicPr/>
          <p:nvPr/>
        </p:nvPicPr>
        <p:blipFill>
          <a:blip r:embed="rId1"/>
          <a:stretch/>
        </p:blipFill>
        <p:spPr>
          <a:xfrm>
            <a:off x="5715000" y="304920"/>
            <a:ext cx="1905120" cy="24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16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6666"/>
                </a:solidFill>
                <a:latin typeface="Verdana"/>
              </a:rPr>
              <a:t>Be suspicious of free info!</a:t>
            </a:r>
            <a:br>
              <a:rPr sz="5200"/>
            </a:br>
            <a:r>
              <a:rPr b="0" lang="en-US" sz="5200" spc="-1" strike="noStrike" u="sng">
                <a:solidFill>
                  <a:srgbClr val="006666"/>
                </a:solidFill>
                <a:uFillTx/>
                <a:latin typeface="Verdana"/>
              </a:rPr>
              <a:t>Ask: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76720" y="1752120"/>
            <a:ext cx="54100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Verdana"/>
              </a:rPr>
              <a:t>Who?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Verdana"/>
              </a:rPr>
              <a:t>What?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Verdana"/>
              </a:rPr>
              <a:t>When?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Verdana"/>
              </a:rPr>
              <a:t>Where?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Verdana"/>
              </a:rPr>
              <a:t>Why?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5" name="Picture 6" descr="Question"/>
          <p:cNvPicPr/>
          <p:nvPr/>
        </p:nvPicPr>
        <p:blipFill>
          <a:blip r:embed="rId1"/>
          <a:stretch/>
        </p:blipFill>
        <p:spPr>
          <a:xfrm>
            <a:off x="6553080" y="2590920"/>
            <a:ext cx="1327320" cy="1828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Question-2"/>
          <p:cNvPicPr/>
          <p:nvPr/>
        </p:nvPicPr>
        <p:blipFill>
          <a:blip r:embed="rId2"/>
          <a:stretch/>
        </p:blipFill>
        <p:spPr>
          <a:xfrm>
            <a:off x="685800" y="3352680"/>
            <a:ext cx="1746360" cy="1905120"/>
          </a:xfrm>
          <a:prstGeom prst="rect">
            <a:avLst/>
          </a:prstGeom>
          <a:ln w="0">
            <a:noFill/>
          </a:ln>
        </p:spPr>
      </p:pic>
      <p:sp>
        <p:nvSpPr>
          <p:cNvPr id="187" name="TextBox 7"/>
          <p:cNvSpPr/>
          <p:nvPr/>
        </p:nvSpPr>
        <p:spPr>
          <a:xfrm>
            <a:off x="380880" y="1447920"/>
            <a:ext cx="305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Verdana"/>
              </a:rPr>
              <a:t>The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Verdana"/>
              </a:rPr>
              <a:t>5 W’s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Verdana"/>
              </a:rPr>
              <a:t>    </a:t>
            </a:r>
            <a:r>
              <a:rPr b="0" lang="en-US" sz="6000" spc="-1" strike="noStrike" u="sng">
                <a:solidFill>
                  <a:srgbClr val="006666"/>
                </a:solidFill>
                <a:uFillTx/>
                <a:latin typeface="Verdana"/>
              </a:rPr>
              <a:t>Who</a:t>
            </a:r>
            <a:r>
              <a:rPr b="0" lang="en-US" sz="6000" spc="-1" strike="noStrike">
                <a:solidFill>
                  <a:srgbClr val="006666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99"/>
                </a:solidFill>
                <a:latin typeface="Verdana"/>
              </a:rPr>
              <a:t>           </a:t>
            </a:r>
            <a:r>
              <a:rPr b="0" lang="en-US" sz="5400" spc="-1" strike="noStrike" u="sng">
                <a:solidFill>
                  <a:srgbClr val="006699"/>
                </a:solidFill>
                <a:uFillTx/>
                <a:latin typeface="Verdana"/>
              </a:rPr>
              <a:t>Who</a:t>
            </a:r>
            <a:r>
              <a:rPr b="0" lang="en-US" sz="5400" spc="-1" strike="noStrike">
                <a:solidFill>
                  <a:srgbClr val="006699"/>
                </a:solidFill>
                <a:latin typeface="Verdana"/>
              </a:rPr>
              <a:t> is the 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6000" spc="-1" strike="noStrike">
                <a:solidFill>
                  <a:srgbClr val="006699"/>
                </a:solidFill>
                <a:latin typeface="Verdana"/>
              </a:rPr>
              <a:t>author?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6000" spc="-1" strike="noStrike" u="sng">
                <a:solidFill>
                  <a:srgbClr val="006699"/>
                </a:solidFill>
                <a:uFillTx/>
                <a:latin typeface="Verdana"/>
              </a:rPr>
              <a:t>Authority</a:t>
            </a:r>
            <a:r>
              <a:rPr b="1" lang="en-US" sz="6000" spc="-1" strike="noStrike">
                <a:solidFill>
                  <a:srgbClr val="006699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0" name="Picture 4" descr="Homer"/>
          <p:cNvPicPr/>
          <p:nvPr/>
        </p:nvPicPr>
        <p:blipFill>
          <a:blip r:embed="rId1"/>
          <a:stretch/>
        </p:blipFill>
        <p:spPr>
          <a:xfrm>
            <a:off x="457200" y="380880"/>
            <a:ext cx="2133720" cy="23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228600" y="-360"/>
            <a:ext cx="8686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6699"/>
                </a:solidFill>
                <a:uFillTx/>
                <a:latin typeface="Verdana"/>
              </a:rPr>
              <a:t>Who</a:t>
            </a:r>
            <a:r>
              <a:rPr b="1" lang="en-US" sz="6000" spc="-1" strike="noStrike">
                <a:solidFill>
                  <a:srgbClr val="006699"/>
                </a:solidFill>
                <a:latin typeface="Verdana"/>
              </a:rPr>
              <a:t>? </a:t>
            </a:r>
            <a:r>
              <a:rPr b="1" lang="en-US" sz="6000" spc="-1" strike="noStrike" u="sng">
                <a:solidFill>
                  <a:srgbClr val="006699"/>
                </a:solidFill>
                <a:uFillTx/>
                <a:latin typeface="Verdana"/>
              </a:rPr>
              <a:t>Authority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Author/ group/ organization/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publisher/ sponsor responsible?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Credentials/ qualifications? Expert?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Look for links: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i="1" lang="en-US" sz="3600" spc="-1" strike="noStrike">
                <a:solidFill>
                  <a:srgbClr val="7030a0"/>
                </a:solidFill>
                <a:latin typeface="Verdana"/>
              </a:rPr>
              <a:t>Home, About, Background, Contact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0" y="6091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Google the name: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7030a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7030a0"/>
                </a:solidFill>
                <a:latin typeface="Verdana"/>
              </a:rPr>
              <a:t>Homer Simpson”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Truncate back the URL: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ttp://www.thesimpsons.com/character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Use www.whois.com or </a:t>
            </a:r>
            <a:r>
              <a:rPr b="0" lang="en-US" sz="4000" spc="-1" strike="noStrike" u="sng">
                <a:solidFill>
                  <a:srgbClr val="cfafe7"/>
                </a:solidFill>
                <a:uFillTx/>
                <a:latin typeface="Verdana"/>
              </a:rPr>
              <a:t>.net </a:t>
            </a: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&amp; enter URL   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: </a:t>
            </a:r>
            <a:r>
              <a:rPr b="0" i="1" lang="en-US" sz="3200" spc="-1" strike="noStrike">
                <a:solidFill>
                  <a:srgbClr val="7030a0"/>
                </a:solidFill>
                <a:latin typeface="Verdana"/>
              </a:rPr>
              <a:t>Whois Lookup</a:t>
            </a:r>
            <a:r>
              <a:rPr b="1" lang="en-US" sz="3200" spc="-1" strike="noStrike">
                <a:solidFill>
                  <a:srgbClr val="7030a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U-Turn Arrow 13"/>
          <p:cNvSpPr/>
          <p:nvPr/>
        </p:nvSpPr>
        <p:spPr>
          <a:xfrm rot="5400000">
            <a:off x="7157880" y="2595600"/>
            <a:ext cx="887400" cy="877680"/>
          </a:xfrm>
          <a:custGeom>
            <a:avLst/>
            <a:gdLst/>
            <a:ahLst/>
            <a:rect l="l" t="t" r="r" b="b"/>
            <a:pathLst>
              <a:path w="887413" h="877888">
                <a:moveTo>
                  <a:pt x="0" y="877888"/>
                </a:moveTo>
                <a:lnTo>
                  <a:pt x="0" y="384076"/>
                </a:lnTo>
                <a:cubicBezTo>
                  <a:pt x="0" y="171957"/>
                  <a:pt x="171957" y="0"/>
                  <a:pt x="384076" y="0"/>
                </a:cubicBezTo>
                <a:lnTo>
                  <a:pt x="393601" y="0"/>
                </a:lnTo>
                <a:cubicBezTo>
                  <a:pt x="605720" y="0"/>
                  <a:pt x="777677" y="171957"/>
                  <a:pt x="777677" y="384076"/>
                </a:cubicBezTo>
                <a:lnTo>
                  <a:pt x="777677" y="438944"/>
                </a:lnTo>
                <a:lnTo>
                  <a:pt x="887413" y="438944"/>
                </a:lnTo>
                <a:lnTo>
                  <a:pt x="667941" y="658416"/>
                </a:lnTo>
                <a:lnTo>
                  <a:pt x="448469" y="438944"/>
                </a:lnTo>
                <a:lnTo>
                  <a:pt x="558205" y="438944"/>
                </a:lnTo>
                <a:lnTo>
                  <a:pt x="558205" y="384076"/>
                </a:lnTo>
                <a:cubicBezTo>
                  <a:pt x="558205" y="293168"/>
                  <a:pt x="484509" y="219472"/>
                  <a:pt x="393601" y="219472"/>
                </a:cubicBezTo>
                <a:lnTo>
                  <a:pt x="384076" y="219472"/>
                </a:lnTo>
                <a:cubicBezTo>
                  <a:pt x="293168" y="219472"/>
                  <a:pt x="219472" y="293168"/>
                  <a:pt x="219472" y="384076"/>
                </a:cubicBezTo>
                <a:lnTo>
                  <a:pt x="219472" y="877888"/>
                </a:lnTo>
                <a:lnTo>
                  <a:pt x="0" y="877888"/>
                </a:lnTo>
                <a:close/>
              </a:path>
            </a:pathLst>
          </a:custGeom>
          <a:solidFill>
            <a:srgbClr val="0affff"/>
          </a:solidFill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1752480" y="304920"/>
            <a:ext cx="6221520" cy="6208560"/>
          </a:xfrm>
          <a:prstGeom prst="rect">
            <a:avLst/>
          </a:prstGeom>
          <a:ln w="0">
            <a:noFill/>
          </a:ln>
        </p:spPr>
      </p:pic>
      <p:sp>
        <p:nvSpPr>
          <p:cNvPr id="195" name="Bent Arrow 8"/>
          <p:cNvSpPr/>
          <p:nvPr/>
        </p:nvSpPr>
        <p:spPr>
          <a:xfrm>
            <a:off x="914400" y="1981080"/>
            <a:ext cx="814320" cy="868320"/>
          </a:xfrm>
          <a:custGeom>
            <a:avLst/>
            <a:gdLst/>
            <a:ahLst/>
            <a:rect l="l" t="t" r="r" b="b"/>
            <a:pathLst>
              <a:path w="814388" h="868363">
                <a:moveTo>
                  <a:pt x="0" y="868363"/>
                </a:moveTo>
                <a:lnTo>
                  <a:pt x="0" y="458093"/>
                </a:lnTo>
                <a:cubicBezTo>
                  <a:pt x="0" y="261317"/>
                  <a:pt x="159519" y="101798"/>
                  <a:pt x="356295" y="101798"/>
                </a:cubicBezTo>
                <a:lnTo>
                  <a:pt x="610791" y="101799"/>
                </a:lnTo>
                <a:lnTo>
                  <a:pt x="610791" y="0"/>
                </a:lnTo>
                <a:lnTo>
                  <a:pt x="814388" y="203597"/>
                </a:lnTo>
                <a:lnTo>
                  <a:pt x="610791" y="407194"/>
                </a:lnTo>
                <a:lnTo>
                  <a:pt x="610791" y="305396"/>
                </a:lnTo>
                <a:lnTo>
                  <a:pt x="356295" y="305396"/>
                </a:lnTo>
                <a:cubicBezTo>
                  <a:pt x="271962" y="305396"/>
                  <a:pt x="203597" y="373761"/>
                  <a:pt x="203597" y="458094"/>
                </a:cubicBezTo>
                <a:lnTo>
                  <a:pt x="203597" y="868363"/>
                </a:lnTo>
                <a:lnTo>
                  <a:pt x="0" y="868363"/>
                </a:lnTo>
                <a:close/>
              </a:path>
            </a:pathLst>
          </a:custGeom>
          <a:solidFill>
            <a:srgbClr val="0affff"/>
          </a:solidFill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228240"/>
            <a:ext cx="82440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6666"/>
                </a:solidFill>
                <a:uFillTx/>
                <a:latin typeface="Verdana"/>
              </a:rPr>
              <a:t>What</a:t>
            </a:r>
            <a:r>
              <a:rPr b="0" lang="en-US" sz="6000" spc="-1" strike="noStrike">
                <a:solidFill>
                  <a:srgbClr val="006666"/>
                </a:solidFill>
                <a:latin typeface="Verdana"/>
              </a:rPr>
              <a:t>?</a:t>
            </a:r>
            <a:br>
              <a:rPr sz="4000"/>
            </a:b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010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6699"/>
                </a:solidFill>
                <a:uFillTx/>
                <a:latin typeface="Verdana"/>
              </a:rPr>
              <a:t>What</a:t>
            </a:r>
            <a:r>
              <a:rPr b="0" lang="en-US" sz="6000" spc="-1" strike="noStrike">
                <a:solidFill>
                  <a:srgbClr val="006699"/>
                </a:solidFill>
                <a:latin typeface="Verdana"/>
              </a:rPr>
              <a:t> is the 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6699"/>
                </a:solidFill>
                <a:uFillTx/>
                <a:latin typeface="Verdana"/>
              </a:rPr>
              <a:t>accuracy</a:t>
            </a:r>
            <a:r>
              <a:rPr b="0" lang="en-US" sz="6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99"/>
                </a:solidFill>
                <a:latin typeface="Verdana"/>
              </a:rPr>
              <a:t>of the site?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8" name="Picture 4" descr="vamps"/>
          <p:cNvPicPr/>
          <p:nvPr/>
        </p:nvPicPr>
        <p:blipFill>
          <a:blip r:embed="rId1"/>
          <a:stretch/>
        </p:blipFill>
        <p:spPr>
          <a:xfrm>
            <a:off x="6858000" y="3048120"/>
            <a:ext cx="2144880" cy="32922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152280" y="1828800"/>
            <a:ext cx="87631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7:05:39Z</dcterms:created>
  <dc:creator>wcpss</dc:creator>
  <dc:description/>
  <dc:language>en-US</dc:language>
  <cp:lastModifiedBy>baddison</cp:lastModifiedBy>
  <dcterms:modified xsi:type="dcterms:W3CDTF">2013-05-13T14:18:22Z</dcterms:modified>
  <cp:revision>196</cp:revision>
  <dc:subject/>
  <dc:title>Evaluating Websites</dc:title>
</cp:coreProperties>
</file>